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2A4-5224-4E4A-BB28-348872407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F2A5-D04E-4D9D-AB88-EF1E086BDC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5BA8-A778-44A2-98BE-6D6BA97E93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ircle can also be considered as the locus of points from which the distance to the centre is a given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BA7-187C-4F4F-9A05-BD8B4550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D60-E0FC-45F3-9806-53B8802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D02-367D-4597-B75C-4BE2D49A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E94-90BE-4356-B34C-B516A777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059-4A85-4976-BEC8-E97C8EC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643-C46B-4786-9FB1-408202A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948-C601-453C-B7BD-F762908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928-A067-436F-9F90-0CF0425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912-AC25-4CAE-86D7-6615006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596-6E23-4690-903E-25578BC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A38-2665-475B-8135-7DC048C9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794-9D97-4781-AAC7-63B7D615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867-31D2-45E7-993C-67B73A826E3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AA4-34A9-4CC9-B918-0B33C3D09B55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050920" y="2133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276720" y="314172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278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B9263A0-C6F7-41E4-BCA4-788821B53B22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Wednesday 29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714840" y="1928880"/>
            <a:ext cx="43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add another point Q on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OQ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Q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250920" y="1773360"/>
            <a:ext cx="3095640" cy="3022560"/>
            <a:chOff x="250920" y="1773360"/>
            <a:chExt cx="3095640" cy="3022560"/>
          </a:xfrm>
        </p:grpSpPr>
        <p:sp>
          <p:nvSpPr>
            <p:cNvPr id="58" name="Rectangle 7"/>
            <p:cNvSpPr/>
            <p:nvPr/>
          </p:nvSpPr>
          <p:spPr>
            <a:xfrm>
              <a:off x="250920" y="1773360"/>
              <a:ext cx="3095640" cy="3022560"/>
            </a:xfrm>
            <a:prstGeom prst="rect">
              <a:avLst/>
            </a:prstGeom>
            <a:solidFill>
              <a:srgbClr val="d5dce7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430200" y="1952640"/>
              <a:ext cx="273528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417600" y="3294000"/>
              <a:ext cx="2736720" cy="0"/>
            </a:xfrm>
            <a:prstGeom prst="line">
              <a:avLst/>
            </a:prstGeom>
            <a:ln w="28440">
              <a:solidFill>
                <a:srgbClr val="0000a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2898720" y="3289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1"/>
            <p:cNvSpPr/>
            <p:nvPr/>
          </p:nvSpPr>
          <p:spPr>
            <a:xfrm>
              <a:off x="1785960" y="1925640"/>
              <a:ext cx="0" cy="2736720"/>
            </a:xfrm>
            <a:prstGeom prst="line">
              <a:avLst/>
            </a:prstGeom>
            <a:ln w="28440">
              <a:solidFill>
                <a:srgbClr val="0000a4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2"/>
            <p:cNvSpPr/>
            <p:nvPr/>
          </p:nvSpPr>
          <p:spPr>
            <a:xfrm>
              <a:off x="700200" y="2208240"/>
              <a:ext cx="2173320" cy="21733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1477800" y="3274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14"/>
            <p:cNvGrpSpPr/>
            <p:nvPr/>
          </p:nvGrpSpPr>
          <p:grpSpPr>
            <a:xfrm>
              <a:off x="1795320" y="2365200"/>
              <a:ext cx="605160" cy="924120"/>
              <a:chOff x="1795320" y="2365200"/>
              <a:chExt cx="605160" cy="924120"/>
            </a:xfrm>
          </p:grpSpPr>
          <p:sp>
            <p:nvSpPr>
              <p:cNvPr id="66" name="Freeform 15"/>
              <p:cNvSpPr/>
              <p:nvPr/>
            </p:nvSpPr>
            <p:spPr>
              <a:xfrm>
                <a:off x="1795320" y="2365200"/>
                <a:ext cx="605160" cy="924120"/>
              </a:xfrm>
              <a:custGeom>
                <a:avLst/>
                <a:gdLst>
                  <a:gd name="textAreaLeft" fmla="*/ 0 w 605160"/>
                  <a:gd name="textAreaRight" fmla="*/ 605520 w 605160"/>
                  <a:gd name="textAreaTop" fmla="*/ 0 h 924120"/>
                  <a:gd name="textAreaBottom" fmla="*/ 924480 h 924120"/>
                </a:gdLst>
                <a:ahLst/>
                <a:rect l="textAreaLeft" t="textAreaTop" r="textAreaRight" b="textAreaBottom"/>
                <a:pathLst>
                  <a:path w="385" h="455">
                    <a:moveTo>
                      <a:pt x="0" y="455"/>
                    </a:moveTo>
                    <a:lnTo>
                      <a:pt x="385" y="0"/>
                    </a:lnTo>
                  </a:path>
                </a:pathLst>
              </a:custGeom>
              <a:noFill/>
              <a:ln w="28440">
                <a:solidFill>
                  <a:srgbClr val="2cae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1860480" y="25862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2cae2c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Text Box 17"/>
            <p:cNvSpPr/>
            <p:nvPr/>
          </p:nvSpPr>
          <p:spPr>
            <a:xfrm>
              <a:off x="1493640" y="18320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3500280" y="3000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ythagora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’ theor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239080" y="3500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Q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+ PQ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O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4804200" y="40006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428760" y="5572080"/>
            <a:ext cx="8281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a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quation of a circle of radiu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ed on the origin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2255760" y="3149640"/>
            <a:ext cx="144720" cy="144360"/>
          </a:xfrm>
          <a:prstGeom prst="rect">
            <a:avLst/>
          </a:prstGeom>
          <a:solidFill>
            <a:srgbClr val="b2ecb2"/>
          </a:solidFill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1785960" y="3294000"/>
            <a:ext cx="614520" cy="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1936440" y="3249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cae2c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>
            <a:off x="2400480" y="2397240"/>
            <a:ext cx="0" cy="909360"/>
          </a:xfrm>
          <a:prstGeom prst="line">
            <a:avLst/>
          </a:prstGeom>
          <a:ln w="28440">
            <a:solidFill>
              <a:srgbClr val="2ca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2369880" y="2700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cae2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Group 28"/>
          <p:cNvGrpSpPr/>
          <p:nvPr/>
        </p:nvGrpSpPr>
        <p:grpSpPr>
          <a:xfrm>
            <a:off x="2295720" y="2028960"/>
            <a:ext cx="818280" cy="393480"/>
            <a:chOff x="2295720" y="2028960"/>
            <a:chExt cx="818280" cy="393480"/>
          </a:xfrm>
        </p:grpSpPr>
        <p:sp>
          <p:nvSpPr>
            <p:cNvPr id="79" name="Text Box 29"/>
            <p:cNvSpPr/>
            <p:nvPr/>
          </p:nvSpPr>
          <p:spPr>
            <a:xfrm>
              <a:off x="2295720" y="2028960"/>
              <a:ext cx="8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P(</a:t>
              </a:r>
              <a:r>
                <a:rPr b="0" i="1" lang="en-GB" sz="1800" spc="-1" strike="noStrike">
                  <a:solidFill>
                    <a:srgbClr val="2cae2c"/>
                  </a:solidFill>
                  <a:latin typeface="Times New Roman"/>
                </a:rPr>
                <a:t>x</a:t>
              </a: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, </a:t>
              </a:r>
              <a:r>
                <a:rPr b="0" i="1" lang="en-GB" sz="1800" spc="-1" strike="noStrike">
                  <a:solidFill>
                    <a:srgbClr val="2cae2c"/>
                  </a:solidFill>
                  <a:latin typeface="Times New Roman"/>
                </a:rPr>
                <a:t>y</a:t>
              </a: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0"/>
            <p:cNvSpPr/>
            <p:nvPr/>
          </p:nvSpPr>
          <p:spPr>
            <a:xfrm>
              <a:off x="2360520" y="2351160"/>
              <a:ext cx="71640" cy="7128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31"/>
          <p:cNvGrpSpPr/>
          <p:nvPr/>
        </p:nvGrpSpPr>
        <p:grpSpPr>
          <a:xfrm>
            <a:off x="2305080" y="3254400"/>
            <a:ext cx="358920" cy="403200"/>
            <a:chOff x="2305080" y="3254400"/>
            <a:chExt cx="358920" cy="403200"/>
          </a:xfrm>
        </p:grpSpPr>
        <p:sp>
          <p:nvSpPr>
            <p:cNvPr id="82" name="Oval 32"/>
            <p:cNvSpPr/>
            <p:nvPr/>
          </p:nvSpPr>
          <p:spPr>
            <a:xfrm>
              <a:off x="2360520" y="3254400"/>
              <a:ext cx="71640" cy="71280"/>
            </a:xfrm>
            <a:prstGeom prst="ellipse">
              <a:avLst/>
            </a:prstGeom>
            <a:solidFill>
              <a:srgbClr val="b2ecb2"/>
            </a:solidFill>
            <a:ln w="19080">
              <a:solidFill>
                <a:srgbClr val="2ca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3"/>
            <p:cNvSpPr/>
            <p:nvPr/>
          </p:nvSpPr>
          <p:spPr>
            <a:xfrm>
              <a:off x="2305080" y="32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cae2c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2"/>
          <p:cNvSpPr/>
          <p:nvPr/>
        </p:nvSpPr>
        <p:spPr>
          <a:xfrm>
            <a:off x="139680" y="4284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030a0"/>
                </a:solidFill>
                <a:latin typeface="Arial"/>
              </a:rPr>
              <a:t>The equation of a circle centred on the orig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714240"/>
            <a:ext cx="87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se we have a circle wit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centre on the origin O and radiu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14800" y="128592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is any point on the circle  we can write OP =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0" y="661176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414-6698-482D-BA97-13356897609E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le 15"/>
          <p:cNvSpPr/>
          <p:nvPr/>
        </p:nvSpPr>
        <p:spPr>
          <a:xfrm>
            <a:off x="500040" y="1785960"/>
            <a:ext cx="3643200" cy="44290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429080"/>
              <a:gd name="textAreaBottom" fmla="*/ 4251240 h 442908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5000760" y="1785960"/>
            <a:ext cx="3571920" cy="442908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429080"/>
              <a:gd name="textAreaBottom" fmla="*/ 4254840 h 4429080"/>
            </a:gdLst>
            <a:ahLst/>
            <a:rect l="textAreaLeft" t="textAreaTop" r="textAreaRight" b="textAreaBottom"/>
            <a:pathLst>
              <a:path w="21600" h="26783">
                <a:moveTo>
                  <a:pt x="3600" y="0"/>
                </a:moveTo>
                <a:arcTo wR="3600" hR="3600" stAng="16200000" swAng="-5400000"/>
                <a:lnTo>
                  <a:pt x="0" y="23183"/>
                </a:lnTo>
                <a:arcTo wR="3600" hR="3600" stAng="10800000" swAng="-5400000"/>
                <a:lnTo>
                  <a:pt x="18000" y="26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134136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ate the radius of each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0080" y="2143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49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00080" y="29289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16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00080" y="3571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36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572080" y="4429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000080" y="50720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00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572080" y="5143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144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572080" y="37148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9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572080" y="28576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572080" y="2143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64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000080" y="4429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4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857680" y="2143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857680" y="29289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857680" y="35719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2857680" y="4429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786040" y="50720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7286760" y="2143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7286760" y="2857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7286760" y="36432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7286760" y="43578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7358040" y="5143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19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AB369C0-E8ED-4FDC-BCD2-29995F833091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Wednesday 29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 the equation of the circle with the centre (0,0) and passing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071720" y="2143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000080" y="25002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6  +  64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500120" y="28576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0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071720" y="3214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00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42960" y="17859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(6,8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714240" y="40006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(3,5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143000" y="4429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071720" y="4786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  +  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643040" y="51436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4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1071720" y="55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500800" y="1928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  (-2,1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000840" y="2357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6215040" y="27147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  +  1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6715080" y="30718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6072120" y="342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500800" y="4000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)   (0, -3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000840" y="4429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-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286680" y="47862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  +  9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786720" y="51436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  =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6072120" y="5572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9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51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D7A2FE6-F3C8-41C4-8DF9-3F2F4A873AA1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Wednesday 29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124000" y="333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ntre 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0,0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radi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76720" y="549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 the equation of the circle with a centre origin and radi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143000" y="2357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71720" y="30718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6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14240" y="20001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714240" y="40006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143000" y="52862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500800" y="19288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 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072120" y="31431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81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500800" y="4000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)  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6072120" y="51436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4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071720" y="2714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6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143000" y="4429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7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143000" y="48578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4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6143760" y="2357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6072120" y="27860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8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000840" y="4357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6000840" y="47149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144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0" y="0"/>
            <a:ext cx="9144000" cy="6887880"/>
            <a:chOff x="0" y="0"/>
            <a:chExt cx="9144000" cy="6887880"/>
          </a:xfrm>
        </p:grpSpPr>
        <p:pic>
          <p:nvPicPr>
            <p:cNvPr id="179" name="Picture 4" descr="paleBlueSurroundIH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4"/>
            <p:cNvSpPr/>
            <p:nvPr/>
          </p:nvSpPr>
          <p:spPr>
            <a:xfrm>
              <a:off x="0" y="0"/>
              <a:ext cx="207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igher Mathema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Box 5"/>
            <p:cNvSpPr/>
            <p:nvPr/>
          </p:nvSpPr>
          <p:spPr>
            <a:xfrm>
              <a:off x="7000920" y="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Unit 2   Outcome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Box 6"/>
            <p:cNvSpPr/>
            <p:nvPr/>
          </p:nvSpPr>
          <p:spPr>
            <a:xfrm>
              <a:off x="0" y="66114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00"/>
                  </a:solidFill>
                  <a:latin typeface="Arial"/>
                </a:rPr>
                <a:t>DiscoveringTim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Box 7"/>
            <p:cNvSpPr/>
            <p:nvPr/>
          </p:nvSpPr>
          <p:spPr>
            <a:xfrm>
              <a:off x="7143840" y="6611400"/>
              <a:ext cx="200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423F637-5A2E-45B9-B573-1D7CE32D7040}" type="datetime2">
                <a:rPr b="0" lang="en-GB" sz="1200" spc="-1" strike="noStrike">
                  <a:solidFill>
                    <a:srgbClr val="ffff00"/>
                  </a:solidFill>
                  <a:latin typeface="Arial"/>
                </a:rPr>
                <a:t>Wednesday 29 July 2026</a:t>
              </a:fld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3708360" y="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ounded Rectangle 15"/>
            <p:cNvSpPr/>
            <p:nvPr/>
          </p:nvSpPr>
          <p:spPr>
            <a:xfrm>
              <a:off x="500040" y="1785600"/>
              <a:ext cx="3643200" cy="4428720"/>
            </a:xfrm>
            <a:custGeom>
              <a:avLst/>
              <a:gdLst>
                <a:gd name="textAreaLeft" fmla="*/ 177840 w 3643200"/>
                <a:gd name="textAreaRight" fmla="*/ 3465360 w 3643200"/>
                <a:gd name="textAreaTop" fmla="*/ 177840 h 4428720"/>
                <a:gd name="textAreaBottom" fmla="*/ 4250880 h 4428720"/>
              </a:gdLst>
              <a:ahLst/>
              <a:rect l="textAreaLeft" t="textAreaTop" r="textAreaRight" b="textAreaBottom"/>
              <a:pathLst>
                <a:path w="21600" h="26257">
                  <a:moveTo>
                    <a:pt x="3600" y="0"/>
                  </a:moveTo>
                  <a:arcTo wR="3600" hR="3600" stAng="16200000" swAng="-5400000"/>
                  <a:lnTo>
                    <a:pt x="0" y="22657"/>
                  </a:lnTo>
                  <a:arcTo wR="3600" hR="3600" stAng="10800000" swAng="-5400000"/>
                  <a:lnTo>
                    <a:pt x="18000" y="262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ounded Rectangle 16"/>
            <p:cNvSpPr/>
            <p:nvPr/>
          </p:nvSpPr>
          <p:spPr>
            <a:xfrm>
              <a:off x="5000760" y="1785600"/>
              <a:ext cx="3571920" cy="4428720"/>
            </a:xfrm>
            <a:custGeom>
              <a:avLst/>
              <a:gdLst>
                <a:gd name="textAreaLeft" fmla="*/ 174240 w 3571920"/>
                <a:gd name="textAreaRight" fmla="*/ 3397680 w 3571920"/>
                <a:gd name="textAreaTop" fmla="*/ 174240 h 4428720"/>
                <a:gd name="textAreaBottom" fmla="*/ 4254480 h 4428720"/>
              </a:gdLst>
              <a:ahLst/>
              <a:rect l="textAreaLeft" t="textAreaTop" r="textAreaRight" b="textAreaBottom"/>
              <a:pathLst>
                <a:path w="21600" h="26781">
                  <a:moveTo>
                    <a:pt x="3600" y="0"/>
                  </a:moveTo>
                  <a:arcTo wR="3600" hR="3600" stAng="16200000" swAng="-5400000"/>
                  <a:lnTo>
                    <a:pt x="0" y="23181"/>
                  </a:lnTo>
                  <a:arcTo wR="3600" hR="3600" stAng="10800000" swAng="-5400000"/>
                  <a:lnTo>
                    <a:pt x="18000" y="267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eecf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 Box 6"/>
          <p:cNvSpPr/>
          <p:nvPr/>
        </p:nvSpPr>
        <p:spPr>
          <a:xfrm>
            <a:off x="0" y="714240"/>
            <a:ext cx="58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</a:rPr>
              <a:t>Find the centre and radius of the circles 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857160" y="20001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7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57160" y="40006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6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5643720" y="2143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11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643720" y="40006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143000" y="250020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143000" y="2857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143000" y="442908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143000" y="4786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57920" y="250020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929200" y="442908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ntre  (0,0)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857920" y="29289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5929200" y="47862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u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740-8A3E-4B9D-BB79-5ABFE22D67A8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ounded Rectangle 8"/>
          <p:cNvSpPr/>
          <p:nvPr/>
        </p:nvSpPr>
        <p:spPr>
          <a:xfrm>
            <a:off x="2714760" y="1928880"/>
            <a:ext cx="4929120" cy="142884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ounded Rectangle 9"/>
          <p:cNvSpPr/>
          <p:nvPr/>
        </p:nvSpPr>
        <p:spPr>
          <a:xfrm>
            <a:off x="2643120" y="3786120"/>
            <a:ext cx="4929120" cy="142884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28960" y="2143080"/>
            <a:ext cx="428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build skil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lete Page 168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FA1-4B10-4E9F-8B54-C7A288972CA6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ounded Rectangle 8"/>
          <p:cNvSpPr/>
          <p:nvPr/>
        </p:nvSpPr>
        <p:spPr>
          <a:xfrm>
            <a:off x="142920" y="1785960"/>
            <a:ext cx="2286000" cy="1500120"/>
          </a:xfrm>
          <a:prstGeom prst="roundRect">
            <a:avLst>
              <a:gd name="adj" fmla="val 16667"/>
            </a:avLst>
          </a:prstGeom>
          <a:solidFill>
            <a:srgbClr val="c2f0ff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ounded Rectangle 9"/>
          <p:cNvSpPr/>
          <p:nvPr/>
        </p:nvSpPr>
        <p:spPr>
          <a:xfrm>
            <a:off x="2500200" y="1785960"/>
            <a:ext cx="2143080" cy="15001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ounded Rectangle 11"/>
          <p:cNvSpPr/>
          <p:nvPr/>
        </p:nvSpPr>
        <p:spPr>
          <a:xfrm>
            <a:off x="4857840" y="1785960"/>
            <a:ext cx="4286160" cy="142884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85840" y="2143080"/>
            <a:ext cx="200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)   Remember to get the equation in correct format.  Divide by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85840" y="18572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714760" y="18572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a4"/>
                </a:solidFill>
                <a:uFillTx/>
                <a:latin typeface="Arial"/>
              </a:rPr>
              <a:t>Ques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643120" y="2286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e)    (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  <a:ea typeface="Times New Roman"/>
              </a:rPr>
              <a:t>sqrt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 3 )</a:t>
            </a:r>
            <a:r>
              <a:rPr b="0" lang="en-GB" sz="1600" spc="-1" strike="noStrike" baseline="30000">
                <a:solidFill>
                  <a:srgbClr val="0000a4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a4"/>
                </a:solidFill>
                <a:latin typeface="Times New Roman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214960" y="21430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Draw a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Part ii)       radius is the hypotenu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                  </a:t>
            </a:r>
            <a:r>
              <a:rPr b="0" lang="en-GB" sz="1800" spc="-1" strike="noStrike">
                <a:solidFill>
                  <a:srgbClr val="0000a4"/>
                </a:solidFill>
                <a:latin typeface="Times New Roman"/>
              </a:rPr>
              <a:t>use Pythag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072040" y="17859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a4"/>
                </a:solidFill>
                <a:uFillTx/>
                <a:latin typeface="Arial"/>
              </a:rPr>
              <a:t>Question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7"/>
          <p:cNvGrpSpPr/>
          <p:nvPr/>
        </p:nvGrpSpPr>
        <p:grpSpPr>
          <a:xfrm>
            <a:off x="142920" y="3500280"/>
            <a:ext cx="2143080" cy="1500480"/>
            <a:chOff x="142920" y="3500280"/>
            <a:chExt cx="2143080" cy="1500480"/>
          </a:xfrm>
        </p:grpSpPr>
        <p:sp>
          <p:nvSpPr>
            <p:cNvPr id="223" name="Rounded Rectangle 12"/>
            <p:cNvSpPr/>
            <p:nvPr/>
          </p:nvSpPr>
          <p:spPr>
            <a:xfrm>
              <a:off x="142920" y="3500280"/>
              <a:ext cx="2143080" cy="150048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285480" y="357156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uestion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285480" y="3929040"/>
              <a:ext cx="183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 values when you do a square root !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38"/>
          <p:cNvGrpSpPr/>
          <p:nvPr/>
        </p:nvGrpSpPr>
        <p:grpSpPr>
          <a:xfrm>
            <a:off x="2571840" y="3429000"/>
            <a:ext cx="2071440" cy="1500120"/>
            <a:chOff x="2571840" y="3429000"/>
            <a:chExt cx="2071440" cy="1500120"/>
          </a:xfrm>
        </p:grpSpPr>
        <p:sp>
          <p:nvSpPr>
            <p:cNvPr id="227" name="Rounded Rectangle 25"/>
            <p:cNvSpPr/>
            <p:nvPr/>
          </p:nvSpPr>
          <p:spPr>
            <a:xfrm>
              <a:off x="2571840" y="3429000"/>
              <a:ext cx="2071440" cy="1500120"/>
            </a:xfrm>
            <a:prstGeom prst="roundRect">
              <a:avLst>
                <a:gd name="adj" fmla="val 16667"/>
              </a:avLst>
            </a:prstGeom>
            <a:solidFill>
              <a:srgbClr val="abfc9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0"/>
            <p:cNvSpPr/>
            <p:nvPr/>
          </p:nvSpPr>
          <p:spPr>
            <a:xfrm>
              <a:off x="2857320" y="350028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a4"/>
                  </a:solidFill>
                  <a:uFillTx/>
                  <a:latin typeface="Arial"/>
                </a:rPr>
                <a:t>Question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26"/>
            <p:cNvSpPr/>
            <p:nvPr/>
          </p:nvSpPr>
          <p:spPr>
            <a:xfrm>
              <a:off x="2714400" y="3857400"/>
              <a:ext cx="183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Using skills. Method same as befo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142920" y="5072040"/>
            <a:ext cx="2143080" cy="1500120"/>
            <a:chOff x="142920" y="5072040"/>
            <a:chExt cx="2143080" cy="1500120"/>
          </a:xfrm>
        </p:grpSpPr>
        <p:sp>
          <p:nvSpPr>
            <p:cNvPr id="231" name="Rounded Rectangle 14"/>
            <p:cNvSpPr/>
            <p:nvPr/>
          </p:nvSpPr>
          <p:spPr>
            <a:xfrm>
              <a:off x="142920" y="5072040"/>
              <a:ext cx="2143080" cy="1500120"/>
            </a:xfrm>
            <a:prstGeom prst="roundRect">
              <a:avLst>
                <a:gd name="adj" fmla="val 16667"/>
              </a:avLst>
            </a:prstGeom>
            <a:solidFill>
              <a:srgbClr val="abfc9e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30"/>
            <p:cNvSpPr/>
            <p:nvPr/>
          </p:nvSpPr>
          <p:spPr>
            <a:xfrm>
              <a:off x="214200" y="5572080"/>
              <a:ext cx="192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Remember to s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a4"/>
                  </a:solidFill>
                  <a:latin typeface="Times New Roman"/>
                </a:rPr>
                <a:t>final ans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85480" y="51433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a4"/>
                  </a:solidFill>
                  <a:uFillTx/>
                  <a:latin typeface="Arial"/>
                </a:rPr>
                <a:t>Question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41"/>
          <p:cNvGrpSpPr/>
          <p:nvPr/>
        </p:nvGrpSpPr>
        <p:grpSpPr>
          <a:xfrm>
            <a:off x="2500200" y="5072040"/>
            <a:ext cx="2071800" cy="1428840"/>
            <a:chOff x="2500200" y="5072040"/>
            <a:chExt cx="2071800" cy="1428840"/>
          </a:xfrm>
        </p:grpSpPr>
        <p:sp>
          <p:nvSpPr>
            <p:cNvPr id="235" name="Rounded Rectangle 30"/>
            <p:cNvSpPr/>
            <p:nvPr/>
          </p:nvSpPr>
          <p:spPr>
            <a:xfrm>
              <a:off x="2500200" y="5072040"/>
              <a:ext cx="2071800" cy="142884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5"/>
            <p:cNvSpPr/>
            <p:nvPr/>
          </p:nvSpPr>
          <p:spPr>
            <a:xfrm>
              <a:off x="2714400" y="514332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Question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31"/>
            <p:cNvSpPr/>
            <p:nvPr/>
          </p:nvSpPr>
          <p:spPr>
            <a:xfrm>
              <a:off x="2571480" y="5500800"/>
              <a:ext cx="180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roblem solv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raw dia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Use pythagor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39"/>
          <p:cNvGrpSpPr/>
          <p:nvPr/>
        </p:nvGrpSpPr>
        <p:grpSpPr>
          <a:xfrm>
            <a:off x="4786200" y="3500280"/>
            <a:ext cx="4357800" cy="1428840"/>
            <a:chOff x="4786200" y="3500280"/>
            <a:chExt cx="4357800" cy="1428840"/>
          </a:xfrm>
        </p:grpSpPr>
        <p:sp>
          <p:nvSpPr>
            <p:cNvPr id="239" name="Rounded Rectangle 13"/>
            <p:cNvSpPr/>
            <p:nvPr/>
          </p:nvSpPr>
          <p:spPr>
            <a:xfrm>
              <a:off x="4786200" y="3500280"/>
              <a:ext cx="4357800" cy="1428840"/>
            </a:xfrm>
            <a:prstGeom prst="roundRect">
              <a:avLst>
                <a:gd name="adj" fmla="val 16667"/>
              </a:avLst>
            </a:prstGeom>
            <a:solidFill>
              <a:srgbClr val="c2f0ff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1"/>
            <p:cNvSpPr/>
            <p:nvPr/>
          </p:nvSpPr>
          <p:spPr>
            <a:xfrm>
              <a:off x="4928760" y="364320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Question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5000400" y="3929040"/>
              <a:ext cx="39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ake  care with layout. Ratio problem first  Given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0880" y="4214880"/>
              <a:ext cx="24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 sec radius 2cm 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sec  radius 4cm  et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Box 42"/>
          <p:cNvSpPr/>
          <p:nvPr/>
        </p:nvSpPr>
        <p:spPr>
          <a:xfrm>
            <a:off x="7358040" y="614376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lenary question …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paleBlueSurroundI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0" y="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000920" y="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0" y="661176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DiscoveringTi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7143840" y="661176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62A-58FF-4701-8648-3BE1730164F0}" type="datetime2">
              <a:rPr b="0" lang="en-GB" sz="1200" spc="-1" strike="noStrike">
                <a:solidFill>
                  <a:srgbClr val="ffff00"/>
                </a:solidFill>
                <a:latin typeface="Arial"/>
              </a:rPr>
              <a:t>Wednesday 29 July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708360" y="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ounded Rectangle 42"/>
          <p:cNvSpPr/>
          <p:nvPr/>
        </p:nvSpPr>
        <p:spPr>
          <a:xfrm>
            <a:off x="0" y="4714920"/>
            <a:ext cx="5929200" cy="1714320"/>
          </a:xfrm>
          <a:prstGeom prst="roundRect">
            <a:avLst>
              <a:gd name="adj" fmla="val 16667"/>
            </a:avLst>
          </a:prstGeom>
          <a:solidFill>
            <a:srgbClr val="abfc9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2"/>
          <p:cNvGrpSpPr/>
          <p:nvPr/>
        </p:nvGrpSpPr>
        <p:grpSpPr>
          <a:xfrm>
            <a:off x="4933440" y="1285920"/>
            <a:ext cx="4210200" cy="4361760"/>
            <a:chOff x="4933440" y="1285920"/>
            <a:chExt cx="4210200" cy="4361760"/>
          </a:xfrm>
        </p:grpSpPr>
        <p:sp>
          <p:nvSpPr>
            <p:cNvPr id="252" name="Text Box 3"/>
            <p:cNvSpPr/>
            <p:nvPr/>
          </p:nvSpPr>
          <p:spPr>
            <a:xfrm>
              <a:off x="8877240" y="3295800"/>
              <a:ext cx="266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4933440" y="1285920"/>
              <a:ext cx="4010400" cy="4361760"/>
              <a:chOff x="4933440" y="1285920"/>
              <a:chExt cx="4010400" cy="4361760"/>
            </a:xfrm>
          </p:grpSpPr>
          <p:sp>
            <p:nvSpPr>
              <p:cNvPr id="254" name="Text Box 5"/>
              <p:cNvSpPr/>
              <p:nvPr/>
            </p:nvSpPr>
            <p:spPr>
              <a:xfrm>
                <a:off x="6819480" y="1285920"/>
                <a:ext cx="26640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1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5" name="Group 6"/>
              <p:cNvGrpSpPr/>
              <p:nvPr/>
            </p:nvGrpSpPr>
            <p:grpSpPr>
              <a:xfrm>
                <a:off x="4933440" y="1465920"/>
                <a:ext cx="4010400" cy="4181760"/>
                <a:chOff x="4933440" y="1465920"/>
                <a:chExt cx="4010400" cy="4181760"/>
              </a:xfrm>
            </p:grpSpPr>
            <p:grpSp>
              <p:nvGrpSpPr>
                <p:cNvPr id="256" name="Group 7"/>
                <p:cNvGrpSpPr/>
                <p:nvPr/>
              </p:nvGrpSpPr>
              <p:grpSpPr>
                <a:xfrm>
                  <a:off x="5333760" y="1874880"/>
                  <a:ext cx="3239640" cy="3239640"/>
                  <a:chOff x="5333760" y="1874880"/>
                  <a:chExt cx="3239640" cy="3239640"/>
                </a:xfrm>
              </p:grpSpPr>
              <p:sp>
                <p:nvSpPr>
                  <p:cNvPr id="257" name="Rectangle 8"/>
                  <p:cNvSpPr/>
                  <p:nvPr/>
                </p:nvSpPr>
                <p:spPr>
                  <a:xfrm>
                    <a:off x="5333760" y="1874880"/>
                    <a:ext cx="3239640" cy="323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Group 9"/>
                  <p:cNvGrpSpPr/>
                  <p:nvPr/>
                </p:nvGrpSpPr>
                <p:grpSpPr>
                  <a:xfrm>
                    <a:off x="5333760" y="1874880"/>
                    <a:ext cx="3239640" cy="3239640"/>
                    <a:chOff x="5333760" y="1874880"/>
                    <a:chExt cx="3239640" cy="3239640"/>
                  </a:xfrm>
                </p:grpSpPr>
                <p:sp>
                  <p:nvSpPr>
                    <p:cNvPr id="259" name="Oval 10"/>
                    <p:cNvSpPr/>
                    <p:nvPr/>
                  </p:nvSpPr>
                  <p:spPr>
                    <a:xfrm>
                      <a:off x="5333760" y="1874880"/>
                      <a:ext cx="3239640" cy="323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2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Oval 11"/>
                    <p:cNvSpPr/>
                    <p:nvPr/>
                  </p:nvSpPr>
                  <p:spPr>
                    <a:xfrm>
                      <a:off x="5686200" y="2255760"/>
                      <a:ext cx="2520000" cy="252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Oval 12"/>
                    <p:cNvSpPr/>
                    <p:nvPr/>
                  </p:nvSpPr>
                  <p:spPr>
                    <a:xfrm>
                      <a:off x="6050160" y="2617560"/>
                      <a:ext cx="1800000" cy="1800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00b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Oval 13"/>
                    <p:cNvSpPr/>
                    <p:nvPr/>
                  </p:nvSpPr>
                  <p:spPr>
                    <a:xfrm>
                      <a:off x="6411960" y="2979720"/>
                      <a:ext cx="1080000" cy="1080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5840">
                      <a:solidFill>
                        <a:srgbClr val="e36c0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cxnSp>
              <p:nvCxnSpPr>
                <p:cNvPr id="263" name="AutoShape 14"/>
                <p:cNvCxnSpPr/>
                <p:nvPr/>
              </p:nvCxnSpPr>
              <p:spPr>
                <a:xfrm flipV="1">
                  <a:off x="6962760" y="1465920"/>
                  <a:ext cx="10080" cy="41821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64" name="AutoShape 15"/>
                <p:cNvCxnSpPr/>
                <p:nvPr/>
              </p:nvCxnSpPr>
              <p:spPr>
                <a:xfrm flipV="1">
                  <a:off x="4933440" y="3418920"/>
                  <a:ext cx="4010760" cy="19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sp>
        <p:nvSpPr>
          <p:cNvPr id="265" name="TextBox 35"/>
          <p:cNvSpPr/>
          <p:nvPr/>
        </p:nvSpPr>
        <p:spPr>
          <a:xfrm>
            <a:off x="0" y="4786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6"/>
          <p:cNvSpPr/>
          <p:nvPr/>
        </p:nvSpPr>
        <p:spPr>
          <a:xfrm>
            <a:off x="1000080" y="4786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of first circle is 2cm diam 4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071720" y="53578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third circle is 8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7"/>
          <p:cNvSpPr/>
          <p:nvPr/>
        </p:nvSpPr>
        <p:spPr>
          <a:xfrm>
            <a:off x="1071720" y="507204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second circle is 6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9"/>
          <p:cNvSpPr/>
          <p:nvPr/>
        </p:nvSpPr>
        <p:spPr>
          <a:xfrm>
            <a:off x="1071720" y="5643720"/>
            <a:ext cx="48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 of  fourth circle is 10cm with a radius 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114300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25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ounded Rectangle 43"/>
          <p:cNvSpPr/>
          <p:nvPr/>
        </p:nvSpPr>
        <p:spPr>
          <a:xfrm>
            <a:off x="0" y="1714680"/>
            <a:ext cx="4786200" cy="3000240"/>
          </a:xfrm>
          <a:prstGeom prst="roundRect">
            <a:avLst>
              <a:gd name="adj" fmla="val 16667"/>
            </a:avLst>
          </a:prstGeom>
          <a:solidFill>
            <a:srgbClr val="ceecfe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142920" y="1785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quare emblem has a circle at its centre with eq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928960" y="22860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+  </a:t>
            </a:r>
            <a:r>
              <a:rPr b="0" i="1" lang="en-GB" sz="2000" spc="-1" strike="noStrike">
                <a:solidFill>
                  <a:srgbClr val="00007b"/>
                </a:solidFill>
                <a:latin typeface="Times New Roman"/>
              </a:rPr>
              <a:t>y</a:t>
            </a:r>
            <a:r>
              <a:rPr b="0" lang="en-GB" sz="2000" spc="-1" strike="noStrike" baseline="30000">
                <a:solidFill>
                  <a:srgbClr val="00007b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7b"/>
                </a:solidFill>
                <a:latin typeface="Times New Roman"/>
              </a:rPr>
              <a:t>  =  4</a:t>
            </a:r>
            <a:r>
              <a:rPr b="0" lang="en-GB" sz="2000" spc="-1" strike="noStrike">
                <a:solidFill>
                  <a:srgbClr val="0000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0" y="2643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repeats to the edge of the emblem with circles on the same centre with a radius of 1cm more eac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34"/>
          <p:cNvSpPr/>
          <p:nvPr/>
        </p:nvSpPr>
        <p:spPr>
          <a:xfrm>
            <a:off x="142920" y="37148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blem side is 10 cm what is the equation of the largest circle on the embl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0" y="857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Exam standard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38:39Z</dcterms:created>
  <dc:creator>chale</dc:creator>
  <dc:description/>
  <dc:language>en-US</dc:language>
  <cp:lastModifiedBy>Caroline</cp:lastModifiedBy>
  <dcterms:modified xsi:type="dcterms:W3CDTF">2010-01-02T17:48:21Z</dcterms:modified>
  <cp:revision>19</cp:revision>
  <dc:subject/>
  <dc:title>Higher Circle</dc:title>
</cp:coreProperties>
</file>